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7A39-FF04-4B93-B136-46DFCFD9B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75B4-247F-4E53-81A0-89DB24EB1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A389-B600-481C-9174-D1C84549C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C5DE-CFBA-47CB-8EDA-C0FA86BCC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C6DA-B5EF-4192-97F4-6CD3AF515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50D7-6563-4B4D-9309-024BA0267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C52B-8A6F-45C7-BB59-79BBCE485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6CC0-1747-44DC-A2B8-321F2C361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EA82-B153-40F1-B7A6-8877F5DC9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002F-58CF-40E7-B37C-CEB114D5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D285-2870-45FE-BAB8-B523B327E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C12F-2D3D-4054-A912-54D235EB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D95AF-9643-4AD9-B409-88AEDDA47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geoghagan_geometry_assignments.htm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5 Segment &amp; Angle Bise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85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385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385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385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385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" dur="385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" dur="385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" dur="385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 If FH bisects &lt;EFG &amp; m&lt;EFG=120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what is m&lt;EF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685800" y="3809880"/>
            <a:ext cx="2286000" cy="609840"/>
          </a:xfrm>
          <a:prstGeom prst="line">
            <a:avLst/>
          </a:prstGeom>
          <a:ln w="381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2209320" y="1676520"/>
            <a:ext cx="762120" cy="2133360"/>
          </a:xfrm>
          <a:prstGeom prst="line">
            <a:avLst/>
          </a:prstGeom>
          <a:ln w="381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837720" y="2742840"/>
            <a:ext cx="2133720" cy="1066680"/>
          </a:xfrm>
          <a:prstGeom prst="line">
            <a:avLst/>
          </a:prstGeom>
          <a:ln w="381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362320" y="2209680"/>
            <a:ext cx="73080" cy="73080"/>
          </a:xfrm>
          <a:prstGeom prst="ellipse">
            <a:avLst/>
          </a:prstGeom>
          <a:solidFill>
            <a:srgbClr val="008080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295280" y="2971800"/>
            <a:ext cx="73080" cy="73080"/>
          </a:xfrm>
          <a:prstGeom prst="ellipse">
            <a:avLst/>
          </a:prstGeom>
          <a:solidFill>
            <a:srgbClr val="008080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371600" y="4191120"/>
            <a:ext cx="73080" cy="73080"/>
          </a:xfrm>
          <a:prstGeom prst="ellipse">
            <a:avLst/>
          </a:prstGeom>
          <a:solidFill>
            <a:srgbClr val="008080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95280" y="4267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19320" y="25909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438280" y="1981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71800" y="3657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724280" y="2057400"/>
                <a:ext cx="190512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191120" y="3886200"/>
                <a:ext cx="297180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EFH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6168960" y="3884760"/>
            <a:ext cx="1143000" cy="685800"/>
          </a:xfrm>
          <a:prstGeom prst="ellipse">
            <a:avLst/>
          </a:prstGeom>
          <a:noFill/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48120" y="30492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0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385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6" dur="385" fill="hold"/>
                                        <p:tgtEl>
                                          <p:spTgt spid="1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08" dur="385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0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10" dur="385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385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5" dur="385" fill="hold"/>
                                        <p:tgtEl>
                                          <p:spTgt spid="1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1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7" dur="385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1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19" dur="385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2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4" dur="385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5" dur="385" fill="hold"/>
                                        <p:tgtEl>
                                          <p:spTgt spid="1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27" dur="385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29" dur="385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3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385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4" dur="385" fill="hold"/>
                                        <p:tgtEl>
                                          <p:spTgt spid="1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3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6" dur="385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3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8" dur="385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3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385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3" dur="385" fill="hold"/>
                                        <p:tgtEl>
                                          <p:spTgt spid="1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4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45" dur="385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47" dur="385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1" dur="385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2" dur="385" fill="hold"/>
                                        <p:tgtEl>
                                          <p:spTgt spid="1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5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54" dur="385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5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6" dur="385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5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385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1" dur="385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6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63" dur="385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6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5" dur="385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385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0" dur="385" fill="hold"/>
                                        <p:tgtEl>
                                          <p:spTgt spid="1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7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72" dur="385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7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74" dur="385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7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8" dur="385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9" dur="385" fill="hold"/>
                                        <p:tgtEl>
                                          <p:spTgt spid="1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81" dur="385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8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83" dur="385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8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8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385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9" dur="385" fill="hold"/>
                                        <p:tgtEl>
                                          <p:spTgt spid="1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9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1" dur="385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9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93" dur="385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9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7" dur="385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8" dur="385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9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00" dur="385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02" dur="385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0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6" dur="385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7" dur="385" fill="hold"/>
                                        <p:tgtEl>
                                          <p:spTgt spid="1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0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09" dur="385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1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1" dur="385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1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385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8" dur="385" fill="hold"/>
                                        <p:tgtEl>
                                          <p:spTgt spid="1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1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20" dur="38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2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22" dur="38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8" dur="385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9" dur="385" fill="hold"/>
                                        <p:tgtEl>
                                          <p:spTgt spid="1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3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31" dur="385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3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33" dur="385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3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1000"/>
                            </p:stCondLst>
                            <p:childTnLst>
                              <p:par>
                                <p:cTn id="93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8" dur="385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9" dur="385" fill="hold"/>
                                        <p:tgtEl>
                                          <p:spTgt spid="1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41" dur="385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4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43" dur="385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4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ast examp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  Solve for x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1371600" y="2286000"/>
            <a:ext cx="1143000" cy="2286000"/>
          </a:xfrm>
          <a:prstGeom prst="line">
            <a:avLst/>
          </a:prstGeom>
          <a:ln w="381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1371600" y="4419360"/>
            <a:ext cx="2819520" cy="152280"/>
          </a:xfrm>
          <a:prstGeom prst="line">
            <a:avLst/>
          </a:prstGeom>
          <a:ln w="381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1371600" y="2895120"/>
            <a:ext cx="2514600" cy="1676520"/>
          </a:xfrm>
          <a:prstGeom prst="line">
            <a:avLst/>
          </a:prstGeom>
          <a:ln w="381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027800">
            <a:off x="563040" y="3836160"/>
            <a:ext cx="182664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538" y="3"/>
                </a:moveTo>
                <a:arcTo wR="10800" hR="10800" stAng="-5483492" swAng="1661296"/>
                <a:lnTo>
                  <a:pt x="10800" y="10800"/>
                </a:lnTo>
                <a:close/>
              </a:path>
              <a:path fill="none" w="21600" h="21600">
                <a:moveTo>
                  <a:pt x="10538" y="3"/>
                </a:moveTo>
                <a:arcTo wR="10800" hR="10800" stAng="-5483492" swAng="1661296"/>
              </a:path>
            </a:pathLst>
          </a:custGeom>
          <a:noFill/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58120" y="3962520"/>
            <a:ext cx="45540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09648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096486"/>
              </a:path>
            </a:pathLst>
          </a:custGeom>
          <a:noFill/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9676400">
            <a:off x="1913400" y="334944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+4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20979000">
            <a:off x="2441520" y="388584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x-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952880" y="1600200"/>
            <a:ext cx="3124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If they are congruent, set them equal to each other, then solv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48320" y="3505320"/>
            <a:ext cx="33526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+40=3x-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=2x-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=2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=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943600" y="5105520"/>
            <a:ext cx="1143000" cy="609480"/>
          </a:xfrm>
          <a:prstGeom prst="ellipse">
            <a:avLst/>
          </a:prstGeom>
          <a:noFill/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0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1" dur="385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2" dur="385" fill="hold"/>
                                        <p:tgtEl>
                                          <p:spTgt spid="1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5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4" dur="385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5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56" dur="385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5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1000"/>
                            </p:stCondLst>
                            <p:childTnLst>
                              <p:par>
                                <p:cTn id="95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1" dur="385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2" dur="385" fill="hold"/>
                                        <p:tgtEl>
                                          <p:spTgt spid="12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6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64" dur="385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66" dur="385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6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0" dur="385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1" dur="385" fill="hold"/>
                                        <p:tgtEl>
                                          <p:spTgt spid="13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3" dur="385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5" dur="385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385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0" dur="385" fill="hold"/>
                                        <p:tgtEl>
                                          <p:spTgt spid="12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2" dur="385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4" dur="385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385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9" dur="385" fill="hold"/>
                                        <p:tgtEl>
                                          <p:spTgt spid="13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1" dur="385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3" dur="385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7" dur="385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8" dur="385" fill="hold"/>
                                        <p:tgtEl>
                                          <p:spTgt spid="1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0" dur="385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2" dur="385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7" dur="385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8" dur="385" fill="hold"/>
                                        <p:tgtEl>
                                          <p:spTgt spid="1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0" dur="385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2" dur="385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7" dur="385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8" dur="385" fill="hold"/>
                                        <p:tgtEl>
                                          <p:spTgt spid="1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0" dur="385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2" dur="385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8" dur="385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9" dur="385" fill="hold"/>
                                        <p:tgtEl>
                                          <p:spTgt spid="1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1" dur="385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3" dur="385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9" dur="385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0" dur="385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42" dur="385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4" dur="385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0" dur="385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51" dur="385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3" dur="385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5" dur="385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1" dur="385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2" dur="385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6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4" dur="385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6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66" dur="385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6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385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3" dur="385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5" dur="385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77" dur="385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7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385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3" dur="385" fill="hold"/>
                                        <p:tgtEl>
                                          <p:spTgt spid="1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5" dur="385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7" dur="385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ssig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9" dur="indefinite" restart="never" nodeType="tmRoot">
          <p:childTnLst>
            <p:seq>
              <p:cTn id="1090" dur="indefinite" nodeType="mainSeq">
                <p:childTnLst>
                  <p:par>
                    <p:cTn id="1091" fill="hold">
                      <p:stCondLst>
                        <p:cond delay="0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5" dur="77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6" dur="770" fill="hold"/>
                                        <p:tgtEl>
                                          <p:spTgt spid="1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8" dur="77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0" dur="77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lways Remember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f they are congruent, then set their measures equal to each other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385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385" fill="hold"/>
                                        <p:tgtEl>
                                          <p:spTgt spid="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" dur="38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" dur="38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385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" dur="385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" dur="385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" dur="385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id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oint that bisects a seg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sec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lits into 2 equal pie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4800600"/>
            <a:ext cx="41911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62520" y="47242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7280" y="4643280"/>
            <a:ext cx="0" cy="301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1480" y="46483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00200" y="48769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                     M                      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81080" y="42670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x+3                 10x+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5305320"/>
            <a:ext cx="6705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x+3=10x+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x=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27360" y="6397560"/>
            <a:ext cx="987120" cy="457200"/>
          </a:xfrm>
          <a:prstGeom prst="ellipse">
            <a:avLst/>
          </a:prstGeom>
          <a:noFill/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038480" y="1219320"/>
            <a:ext cx="0" cy="3429000"/>
          </a:xfrm>
          <a:prstGeom prst="line">
            <a:avLst/>
          </a:prstGeom>
          <a:ln w="381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385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385" fill="hold"/>
                                        <p:tgtEl>
                                          <p:spTgt spid="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" dur="38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" dur="38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385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" dur="385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" dur="385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" dur="385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385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" dur="385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" dur="385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1" dur="385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385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" dur="385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0" dur="385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2" dur="385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385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" dur="385" fill="hold"/>
                                        <p:tgtEl>
                                          <p:spTgt spid="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" dur="385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" dur="385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385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" dur="385" fill="hold"/>
                                        <p:tgtEl>
                                          <p:spTgt spid="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" dur="385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" dur="385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385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385" fill="hold"/>
                                        <p:tgtEl>
                                          <p:spTgt spid="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8" dur="385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" dur="385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385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5" dur="385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7" dur="385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9" dur="385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385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4" dur="385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6" dur="385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8" dur="385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385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" dur="385" fill="hold"/>
                                        <p:tgtEl>
                                          <p:spTgt spid="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6" dur="385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8" dur="385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385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5" dur="385" fill="hold"/>
                                        <p:tgtEl>
                                          <p:spTgt spid="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7" dur="385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9" dur="385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385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6" dur="385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8" dur="385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0" dur="385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385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7" dur="385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9" dur="385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1" dur="385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385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8" dur="385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0" dur="385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2" dur="385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385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8" dur="385" fill="hold"/>
                                        <p:tgtEl>
                                          <p:spTgt spid="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0" dur="385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2" dur="385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egment Bise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egment, ray, line, or plane that intersects a segment at its mid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09680" y="4114800"/>
            <a:ext cx="5486400" cy="533520"/>
          </a:xfrm>
          <a:prstGeom prst="line">
            <a:avLst/>
          </a:prstGeom>
          <a:ln w="38160">
            <a:solidFill>
              <a:srgbClr val="00808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876920" y="4343400"/>
            <a:ext cx="75960" cy="152280"/>
          </a:xfrm>
          <a:prstGeom prst="ellipse">
            <a:avLst/>
          </a:prstGeom>
          <a:solidFill>
            <a:srgbClr val="008080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05120" y="4267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67480" y="4800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4495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3276720" y="3429000"/>
            <a:ext cx="2743200" cy="23623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19920" y="327672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505320" y="4038480"/>
            <a:ext cx="0" cy="381240"/>
          </a:xfrm>
          <a:prstGeom prst="line">
            <a:avLst/>
          </a:prstGeom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4343400"/>
            <a:ext cx="0" cy="380880"/>
          </a:xfrm>
          <a:prstGeom prst="line">
            <a:avLst/>
          </a:prstGeom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385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1" dur="385" fill="hold"/>
                                        <p:tgtEl>
                                          <p:spTgt spid="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3" dur="385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5" dur="385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385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2" dur="385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4" dur="385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6" dur="385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385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3" dur="385" fill="hold"/>
                                        <p:tgtEl>
                                          <p:spTgt spid="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5" dur="385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7" dur="385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385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2" dur="385" fill="hold"/>
                                        <p:tgtEl>
                                          <p:spTgt spid="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4" dur="385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6" dur="385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385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1" dur="385" fill="hold"/>
                                        <p:tgtEl>
                                          <p:spTgt spid="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3" dur="385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5" dur="385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385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0" dur="385" fill="hold"/>
                                        <p:tgtEl>
                                          <p:spTgt spid="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2" dur="385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4" dur="385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385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9" dur="385" fill="hold"/>
                                        <p:tgtEl>
                                          <p:spTgt spid="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1" dur="385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3" dur="385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385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9" dur="385" fill="hold"/>
                                        <p:tgtEl>
                                          <p:spTgt spid="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1" dur="385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3" dur="385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385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8" dur="385" fill="hold"/>
                                        <p:tgtEl>
                                          <p:spTgt spid="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0" dur="385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2" dur="385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385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9" dur="385" fill="hold"/>
                                        <p:tgtEl>
                                          <p:spTgt spid="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1" dur="385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3" dur="385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385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8" dur="385" fill="hold"/>
                                        <p:tgtEl>
                                          <p:spTgt spid="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0" dur="385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2" dur="385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pass &amp; Straighte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ls used for creating geometric co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do a project with these l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385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1" dur="385" fill="hold"/>
                                        <p:tgtEl>
                                          <p:spTgt spid="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3" dur="385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5" dur="385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385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2" dur="385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4" dur="385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6" dur="385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385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3" dur="385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5" dur="385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7" dur="385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idpoint Form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for finding the coordinates of the midpoint of a segment in a coordinate pla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endpoints are 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&amp; 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 t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2590920" y="4038480"/>
                <a:ext cx="3886200" cy="157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385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6" dur="385" fill="hold"/>
                                        <p:tgtEl>
                                          <p:spTgt spid="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8" dur="385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0" dur="385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385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7" dur="385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9" dur="385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1" dur="385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385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8" dur="385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0" dur="385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2" dur="385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385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9" dur="385" fill="hold"/>
                                        <p:tgtEl>
                                          <p:spTgt spid="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1" dur="38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3" dur="38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Find the midpoint of SP if S(-3,-5) &amp; P(5,11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848720" y="4190760"/>
            <a:ext cx="83808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62720" y="3049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2743200" y="1905120"/>
                <a:ext cx="3505320" cy="12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3581280" y="3429000"/>
                <a:ext cx="182880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3886200" y="5029200"/>
                <a:ext cx="12952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,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3581280" y="4800600"/>
            <a:ext cx="1828800" cy="1295280"/>
          </a:xfrm>
          <a:prstGeom prst="ellipse">
            <a:avLst/>
          </a:prstGeom>
          <a:noFill/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385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2" dur="385" fill="hold"/>
                                        <p:tgtEl>
                                          <p:spTgt spid="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4" dur="385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6" dur="385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385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1" dur="385" fill="hold"/>
                                        <p:tgtEl>
                                          <p:spTgt spid="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3" dur="38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5" dur="38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385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2" dur="385" fill="hold"/>
                                        <p:tgtEl>
                                          <p:spTgt spid="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4" dur="385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6" dur="385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385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3" dur="385" fill="hold"/>
                                        <p:tgtEl>
                                          <p:spTgt spid="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5" dur="38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7" dur="38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385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4" dur="385" fill="hold"/>
                                        <p:tgtEl>
                                          <p:spTgt spid="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6" dur="385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8" dur="385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385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4" dur="385" fill="hold"/>
                                        <p:tgtEl>
                                          <p:spTgt spid="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6" dur="385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8" dur="385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he midpoint of AB is M(2,4).  One endpoint is A(-1,7).  Find the coordinates of 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590920" y="1066680"/>
                <a:ext cx="403848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idpoin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219320" y="2057400"/>
                <a:ext cx="121896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5486400" y="2057400"/>
                <a:ext cx="121932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1066680" y="3048120"/>
                <a:ext cx="1371600" cy="81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5562720" y="3124080"/>
                <a:ext cx="11430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1143000" y="4114800"/>
                <a:ext cx="12193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5486400" y="4038480"/>
                <a:ext cx="12952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1371600" y="4876920"/>
                <a:ext cx="8380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5867280" y="4876920"/>
                <a:ext cx="7621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3962520" y="5638680"/>
                <a:ext cx="6858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 flipH="1">
            <a:off x="2057400" y="1752480"/>
            <a:ext cx="838080" cy="457200"/>
          </a:xfrm>
          <a:prstGeom prst="line">
            <a:avLst/>
          </a:prstGeom>
          <a:ln w="381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95680" y="1752480"/>
            <a:ext cx="990720" cy="533520"/>
          </a:xfrm>
          <a:prstGeom prst="line">
            <a:avLst/>
          </a:prstGeom>
          <a:ln w="381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57400" y="5334120"/>
            <a:ext cx="1828800" cy="533160"/>
          </a:xfrm>
          <a:prstGeom prst="line">
            <a:avLst/>
          </a:prstGeom>
          <a:ln w="381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4648320" y="5410080"/>
            <a:ext cx="1371600" cy="457200"/>
          </a:xfrm>
          <a:prstGeom prst="line">
            <a:avLst/>
          </a:prstGeom>
          <a:ln w="381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33920" y="5486400"/>
            <a:ext cx="1066680" cy="762120"/>
          </a:xfrm>
          <a:prstGeom prst="ellipse">
            <a:avLst/>
          </a:prstGeom>
          <a:noFill/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86200" y="1522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0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385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7" dur="385" fill="hold"/>
                                        <p:tgtEl>
                                          <p:spTgt spid="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9" dur="385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1" dur="385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385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6" dur="385" fill="hold"/>
                                        <p:tgtEl>
                                          <p:spTgt spid="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8" dur="385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0" dur="385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385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7" dur="385" fill="hold"/>
                                        <p:tgtEl>
                                          <p:spTgt spid="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9" dur="385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1" dur="385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385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8" dur="385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0" dur="385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2" dur="385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385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7" dur="385" fill="hold"/>
                                        <p:tgtEl>
                                          <p:spTgt spid="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9" dur="38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1" dur="38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385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8" dur="385" fill="hold"/>
                                        <p:tgtEl>
                                          <p:spTgt spid="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0" dur="385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2" dur="385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385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7" dur="385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9" dur="385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1" dur="385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385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8" dur="385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0" dur="385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2" dur="385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385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9" dur="385" fill="hold"/>
                                        <p:tgtEl>
                                          <p:spTgt spid="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1" dur="385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3" dur="385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385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0" dur="385" fill="hold"/>
                                        <p:tgtEl>
                                          <p:spTgt spid="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2" dur="38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4" dur="38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385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1" dur="385" fill="hold"/>
                                        <p:tgtEl>
                                          <p:spTgt spid="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3" dur="38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5" dur="38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385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2" dur="385" fill="hold"/>
                                        <p:tgtEl>
                                          <p:spTgt spid="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4" dur="385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6" dur="385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385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3" dur="385" fill="hold"/>
                                        <p:tgtEl>
                                          <p:spTgt spid="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5" dur="385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7" dur="385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385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4" dur="385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6" dur="385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8" dur="385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385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4" dur="385" fill="hold"/>
                                        <p:tgtEl>
                                          <p:spTgt spid="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6" dur="385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8" dur="385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2000"/>
                            </p:stCondLst>
                            <p:childTnLst>
                              <p:par>
                                <p:cTn id="62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385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4" dur="385" fill="hold"/>
                                        <p:tgtEl>
                                          <p:spTgt spid="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6" dur="38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8" dur="38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3000"/>
                            </p:stCondLst>
                            <p:childTnLst>
                              <p:par>
                                <p:cTn id="63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385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4" dur="385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6" dur="385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8" dur="385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ngle Bise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ay that divides an angle into 2 congruent adjacent ang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D is an angl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sector of &lt;AB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09480" y="3123720"/>
            <a:ext cx="2590920" cy="1752840"/>
          </a:xfrm>
          <a:prstGeom prst="line">
            <a:avLst/>
          </a:prstGeom>
          <a:ln w="381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4876920"/>
            <a:ext cx="3200400" cy="990360"/>
          </a:xfrm>
          <a:prstGeom prst="line">
            <a:avLst/>
          </a:prstGeom>
          <a:ln w="381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09480" y="4495320"/>
            <a:ext cx="3353040" cy="381240"/>
          </a:xfrm>
          <a:prstGeom prst="line">
            <a:avLst/>
          </a:prstGeom>
          <a:ln w="381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48006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666880" y="3429000"/>
            <a:ext cx="76320" cy="76320"/>
          </a:xfrm>
          <a:prstGeom prst="ellipse">
            <a:avLst/>
          </a:prstGeom>
          <a:solidFill>
            <a:srgbClr val="008080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970360" y="4570560"/>
            <a:ext cx="72720" cy="72720"/>
          </a:xfrm>
          <a:prstGeom prst="ellipse">
            <a:avLst/>
          </a:prstGeom>
          <a:solidFill>
            <a:srgbClr val="008080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895480" y="5562720"/>
            <a:ext cx="73080" cy="73080"/>
          </a:xfrm>
          <a:prstGeom prst="ellipse">
            <a:avLst/>
          </a:prstGeom>
          <a:solidFill>
            <a:srgbClr val="008080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438280" y="3124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56386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71800" y="4191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2302800">
            <a:off x="95760" y="4109400"/>
            <a:ext cx="182556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987" y="31"/>
                </a:moveTo>
                <a:arcTo wR="10800" hR="10800" stAng="-5659117" swAng="2220976"/>
                <a:lnTo>
                  <a:pt x="10800" y="10800"/>
                </a:lnTo>
                <a:close/>
              </a:path>
              <a:path fill="none" w="21600" h="21600">
                <a:moveTo>
                  <a:pt x="9987" y="31"/>
                </a:moveTo>
                <a:arcTo wR="10800" hR="10800" stAng="-5659117" swAng="2220976"/>
              </a:path>
            </a:pathLst>
          </a:custGeom>
          <a:noFill/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2539200">
            <a:off x="421200" y="4296240"/>
            <a:ext cx="1828440" cy="1829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445" y="329"/>
                </a:moveTo>
                <a:arcTo wR="10800" hR="10800" stAng="-4549319" swAng="2623821"/>
                <a:lnTo>
                  <a:pt x="10800" y="10800"/>
                </a:lnTo>
                <a:close/>
              </a:path>
              <a:path fill="none" w="21600" h="21600">
                <a:moveTo>
                  <a:pt x="13445" y="329"/>
                </a:moveTo>
                <a:arcTo wR="10800" hR="10800" stAng="-4549319" swAng="2623821"/>
              </a:path>
            </a:pathLst>
          </a:custGeom>
          <a:noFill/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800600" y="38862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0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385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7" dur="385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9" dur="385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1" dur="385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385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8" dur="385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0" dur="385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2" dur="385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385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9" dur="385" fill="hold"/>
                                        <p:tgtEl>
                                          <p:spTgt spid="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1" dur="385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3" dur="385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385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8" dur="385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0" dur="385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2" dur="385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385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7" dur="385" fill="hold"/>
                                        <p:tgtEl>
                                          <p:spTgt spid="1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8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9" dur="385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1" dur="385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385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6" dur="385" fill="hold"/>
                                        <p:tgtEl>
                                          <p:spTgt spid="1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98" dur="385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0" dur="385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385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5" dur="385" fill="hold"/>
                                        <p:tgtEl>
                                          <p:spTgt spid="1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7" dur="385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0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9" dur="385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385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4" dur="385" fill="hold"/>
                                        <p:tgtEl>
                                          <p:spTgt spid="1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6" dur="385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1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18" dur="385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385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3" dur="385" fill="hold"/>
                                        <p:tgtEl>
                                          <p:spTgt spid="1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25" dur="385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7" dur="385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2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385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4" dur="385" fill="hold"/>
                                        <p:tgtEl>
                                          <p:spTgt spid="1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6" dur="385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8" dur="385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385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3" dur="385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4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5" dur="385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4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47" dur="385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385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2" dur="385" fill="hold"/>
                                        <p:tgtEl>
                                          <p:spTgt spid="1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4" dur="385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56" dur="385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385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3" dur="385" fill="hold"/>
                                        <p:tgtEl>
                                          <p:spTgt spid="1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6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5" dur="385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6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7" dur="385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6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7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385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3" dur="385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5" dur="385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7" dur="385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385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4" dur="385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6" dur="385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8" dur="385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385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3" dur="385" fill="hold"/>
                                        <p:tgtEl>
                                          <p:spTgt spid="1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9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5" dur="385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7" dur="385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6T16:57:20Z</dcterms:created>
  <dc:creator>julie.geoghagan</dc:creator>
  <dc:description/>
  <dc:language>en-US</dc:language>
  <cp:lastModifiedBy>julie.geoghagan</cp:lastModifiedBy>
  <dcterms:modified xsi:type="dcterms:W3CDTF">2005-07-28T17:06:47Z</dcterms:modified>
  <cp:revision>13</cp:revision>
  <dc:subject/>
  <dc:title>1.5 Segment &amp; Angle Bisectors</dc:title>
</cp:coreProperties>
</file>